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155-793C-4657-B418-DFBF4187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D8F-1750-4EE7-B4B3-029571C7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474-C164-430F-9A0B-A59D9E3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FDC-5AF6-42D0-A47C-3BB844209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A1A-1E27-4881-B8D0-CB78E6B0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CCF5-ECE2-473B-9130-8FD7CECC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E983-A10C-43FD-909E-A2B471A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62CC-6B01-4A16-87EB-75C757E1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4943-58B3-4DB9-9352-8825FA70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7121-FBEB-4EF8-9548-D591FAC3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D1F-457F-472A-9E85-39A791D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769-8AD9-4E00-BFEC-F1B77D24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EDD-ACB2-4F4E-AD04-1CAF61A6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476-0F10-41E5-B47D-2A7FEC83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A40A-7BAA-43D5-A30B-DF3F6B7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3E8-56EF-4789-B7C5-30A0D000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2B9-DDD9-49EF-882C-B911CA61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77E3-6912-49DA-815E-941E4EB5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5F65-D8F7-46F1-86F4-F8526262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91F7-4666-49B8-851C-3D1D2828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53F0-F193-45C4-8853-6B056A2A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077B-E945-4135-B3D6-B2470B9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B7A-A355-4134-9428-6D56A71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E96E-A5EC-4E41-83F8-D0FB95CF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69C7D-A05B-42E3-A755-FD07F911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EFD31-752D-415A-9413-A77E162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D650A-C13A-4E32-9999-FC591D9D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0CF7-CAB3-46F6-85D5-AC5E7817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A289-B1B2-4ED3-BE3C-B2E64145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D8AAA-B672-4470-968B-44AF85EF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099F-14DF-4CF3-A8C0-B6509D9B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4067-0E8D-4A9F-BC9C-A9E51086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590D-C234-4FA6-9DCF-1D03AE10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745-5A56-476D-A25F-46BAF14B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ED20-D0A4-4605-8759-90BE76C4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E1EA7-B69B-4207-BD4E-F6A39CB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EC1B-63D2-468D-83CD-9A6C2DC9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A43B-332D-4174-BAF2-12E03DA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8B8D-DF8A-4B6E-A31C-CA9351B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5C3CF-53E6-4B4D-ABD2-24AE305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EBB8E-8F83-40AA-B0B9-106B41AA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79C7B-7D97-46BA-8F7A-FF7CE961E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3661-E43B-431D-931F-BC906983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3EA8-62F3-41E5-A23D-4E981100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7C5-66F2-4E57-9640-73C313BF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DEEC-3066-41A3-892E-B94A21D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DC73-9C8A-4AF1-B0F2-B9035B2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492C-F0D3-41E4-9483-2DBBA950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DC309-C273-4ACE-8FE7-8B231431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A683-96AD-4418-8AF1-AADD71CF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93961-762D-4939-9AC1-C5B7B41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6E95-A705-449C-B3FA-B892E554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078F-F03A-4FDF-B5FE-0B5B54ED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7D9D1-1F65-472A-950A-9B37294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1F6C-1733-48BF-8026-6395F395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043-5A36-464A-AE29-AA9CECE2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375F5-C08D-4A16-8FE0-45941C79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0AA80-47D6-4E89-A02B-41FC082C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AB13-BAB0-432D-9CD9-CD1FD4FF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C020-416D-44BC-B9B9-CBF9BC5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BA187-3920-4C08-B5B8-E5882A9C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E93F0-4A89-449B-8736-DDFE7C2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35E9-D0E1-4AF6-9B80-563FC45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23F7E-0FBB-4D1A-B6FE-5E512EA1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F924-530F-47C4-B8BA-03AFE7DC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82119-F724-48DC-A373-8F1CFDCC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2ED-B1E3-4403-9E33-01B22EB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556F-7467-46B5-A59A-941CD55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854C-70E6-4AAB-9D9C-431C40D8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EE276-5059-4500-BB28-AE604ABC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A2F3-2BDA-45A9-96ED-84BA012B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44EA4-8345-4D78-860D-DD9C286E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92B92-B1E2-4CFA-B2DD-412276AC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58C1-87BB-487E-B3DB-C3E1EC2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A5BE-2945-42AB-AA50-A6A535AB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ACCBC-08EB-43F1-9616-9D84532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7D25-DBD1-4F06-9187-8963FAC3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1BF-5B9E-4B4B-BA0A-D24C8DE2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B8477-E0D7-497D-9B78-76D57B71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9E430-17BA-48E8-89F8-3A59DA0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2313-B914-4F52-ADFA-2D29D6F3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D77E1-40F6-44A6-8ED4-B428A20C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F6053-367B-4F64-956F-3A8F3521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CF9A-CE26-43A2-9BBF-3E018069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0924-DA8E-452C-9450-3A0B493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7A23-E420-4464-8FC5-D9ADD18B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39257-2CA7-4012-A657-8BAE7FEF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D09A5-8AE2-4794-88E0-B730B556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53B-73CF-44BC-A8DF-9469A79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CB194-A730-4546-8AE7-3C86DA63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060A-B3DB-4D5B-BBF3-45BFA91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CE154-B34D-4CBB-A69D-3FC4996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4E7F4-0B10-450C-A4BA-8B523BC4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C03D-8187-4BAB-BCD8-8BBDEC41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13862-F02A-45BB-94D7-C186DDD0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250C-B5F0-4440-9D06-D1FDFC57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0ECF-D20D-4D54-B611-25A3C1735D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D93-0584-493B-AE1F-1A9107CB535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0CE-EE4D-4647-B1A8-0BDA3B87561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3FD-6A10-4551-8319-7CA663CA12C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9C6-AEAB-4DB3-8446-69FE11B2384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4740-019F-4F9C-8346-11EF65BBEF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6623-290B-4B45-9367-2C5EEFF70B5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C20-C1DA-4B98-B672-DA2823BB128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1066680" y="1035000"/>
            <a:ext cx="7391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arah went to the store to buy some groceries.  She got a loaf of bread for $2.00 and lunch meats for $7.00.  She got 3 oranges for $1.00 each and a cantaloupe originally priced at $6, but was $2 off.  How much did she spend at the super market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5"/>
          <p:cNvSpPr/>
          <p:nvPr/>
        </p:nvSpPr>
        <p:spPr>
          <a:xfrm>
            <a:off x="457200" y="5223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ames went to the store to buy some baseball cards.  He got 3 new cards for $2 each.  There were also cards that were marked ½ off.  He bought 2 of these originally priced at $5, 1 originally priced at $6, and 4 that were originally priced at $9.  If James used a gift certificate worth $10, how much money did he spend in the sto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457200" y="5223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ire and Tom are calculating the scoring total for a football game.  During the game, the Eagles scored 3 touchdowns (6 points each), missed both extra points, and got 2 field goals (3 points each).  The Giants got 2 touchdowns with both of the extra points, 1 safety (2 points) and 3 field goals.  Who won the game and by how much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3:30:34Z</dcterms:created>
  <dc:creator>Jennifer Schwinghammer</dc:creator>
  <dc:description/>
  <dc:language>en-US</dc:language>
  <cp:lastModifiedBy>Jennifer Schwinghammer</cp:lastModifiedBy>
  <dcterms:modified xsi:type="dcterms:W3CDTF">2008-05-28T03:39:34Z</dcterms:modified>
  <cp:revision>1</cp:revision>
  <dc:subject/>
  <dc:title>Slide 1</dc:title>
</cp:coreProperties>
</file>